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F605-D095-4A37-A700-02517801BC7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IV and A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IV and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in South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 Africa has an estimated five million people living with HIV - more than any other n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ists say some 600 South Africans die from Aids-related diseases each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ds is predicted to cause a huge rise in the country's death rate over the next two decade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ers say that people who use and abuse alcohol are at both greater risk of contracting Aids, and infecting oth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urvey conducted in Carltonville in South Africa revealed that men who drink are four times more likely to be HIV positiv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afe Sex in South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at unsafe sex is so prevalent in South Afric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women in South Africa feel they must have sex when ask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ould the government do to change these statistic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prevalence rates in women under 20 have fallen since 1998, suggesting that Aids awareness campaigns are having an imp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– Human Immunodeficiency Viru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DS – Auto Immune Deficiency Syndrome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is the name given to a vi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affects your immune system (the way your body fights illness and infe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stops your immune system from working properly so that your body can no longer defend itself. This is A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– Human Immunodeficiency Viru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DS – Auto Immune Deficiency Syndrome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is the name given to 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affects your immune system (the way your body fights illness and infec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stops your immune system from working properly so that your body can no longer defend itself. This is A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Vir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luenza (flu), Polio, Smallp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uses are micro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nsist of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or RNA (which hold the information about the virus, like your D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otein coat (to protect the DNA/R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Vir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luenza (flu), Polio, Smallp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uses are 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nsist of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or RNA (which hold the information about the virus, like your 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otein coat (to protect the DNA/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 virus ‘works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rus is a parasite which cannot reproduce on its ow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needs another living thing to surv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nfects the cells of your body and ‘hijacks’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dsorption &amp; Entr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cells stop doing what they’re supposed to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 make copies of the vi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eplication &amp; Assembl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 viruses are released and 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o infect other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elea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 virus ‘work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rus is a parasite which cannot reproduce on its ow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needs another living thing to surv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nfects the cells of your body and ‘hijacks’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dsorption &amp; Ent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cells stop doing what they’re supposed to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 make copies of the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eplication &amp; Assemb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 viruses are released and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o infect oth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ele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Al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uses have characteristics of living things but, in some ways, could be said to be non-living – what do you thin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– Living th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odu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p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rid of was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Al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uses have characteristics of living things but, in some ways, could be said to be non-living – what do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– Living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rid of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it sprea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rus needs to make its way from one ‘host’ to an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an happen in different w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bor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er of body fl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ough a ‘carrier’ (malari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is transferred ONLY through transfer of body fl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ny examples of body fluids that could spread HIV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of each body fluid do you think needs to be transferred for someone to become infected with HIV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it sprea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rus needs to make its way from one ‘host’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an happen in different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bor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er of body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ough a ‘carrier’ (mala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is transferred ONLY through transfer of body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ny examples of body fluids that could spread HIV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of each body fluid do you think needs to be transferred for someone to become infected with HIV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IDS affect you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stops your immune system from working proper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s an illness that is not very serious for you and me can become life threatening to someone with HI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do not die from AIDS, they die because their bodies cannot fight off infections from other disease-causing organis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pnuemo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tubercul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94FE-0C16-4E5C-89FC-FDCE41B90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6F65-500C-4D09-A40C-1E6C8381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421D-BD50-41EA-AC52-6EB75E381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68CD-D077-4422-8B64-2699DBB0B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4259-74E4-46D4-81BA-4B9391A7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F115-CE7C-4A13-AC2C-DDDE9FB0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73D9-5FF3-49A2-A702-346ED430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E2C6-2306-445C-828D-5C6141AF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684B-22F4-4277-A90E-566527BC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59E2-9F17-4BAA-AE18-1F78209E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9085-B2FB-400E-8C6A-6263780F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1AD3-280D-4371-928D-45215731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F1A1-071E-4B5D-BFAE-9A68AE9BB99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2857680" y="1752480"/>
            <a:ext cx="3429000" cy="3353040"/>
          </a:xfrm>
          <a:prstGeom prst="rect">
            <a:avLst/>
          </a:prstGeom>
          <a:ln w="0">
            <a:noFill/>
          </a:ln>
        </p:spPr>
      </p:pic>
      <p:pic>
        <p:nvPicPr>
          <p:cNvPr id="49" name="Title 1" descr=""/>
          <p:cNvPicPr/>
          <p:nvPr/>
        </p:nvPicPr>
        <p:blipFill>
          <a:blip r:embed="rId2"/>
          <a:stretch/>
        </p:blipFill>
        <p:spPr>
          <a:xfrm>
            <a:off x="689040" y="2359080"/>
            <a:ext cx="7772400" cy="1469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Fa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V in South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outh Africa has an estimated five million people living with HIV - more than any other nat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ctivists say some 600 South Africans die from Aids-related diseases each da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8" descr="aids_by_age"/>
          <p:cNvPicPr/>
          <p:nvPr/>
        </p:nvPicPr>
        <p:blipFill>
          <a:blip r:embed="rId1"/>
          <a:stretch/>
        </p:blipFill>
        <p:spPr>
          <a:xfrm>
            <a:off x="2411280" y="3390840"/>
            <a:ext cx="44308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ids is predicted to cause a huge rise in the country's death rate over the next two decades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10" descr="2"/>
          <p:cNvPicPr/>
          <p:nvPr/>
        </p:nvPicPr>
        <p:blipFill>
          <a:blip r:embed="rId1"/>
          <a:srcRect l="0" t="0" r="0" b="10506"/>
          <a:stretch/>
        </p:blipFill>
        <p:spPr>
          <a:xfrm>
            <a:off x="1763640" y="1509840"/>
            <a:ext cx="597528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searchers say that people who use and abuse alcohol are at both greater risk of contracting Aids, and infecting other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survey conducted in Carltonville in South Africa revealed that men who drink are four times more likely to be HIV positiv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4"/>
          <p:cNvPicPr/>
          <p:nvPr/>
        </p:nvPicPr>
        <p:blipFill>
          <a:blip r:embed="rId1"/>
          <a:srcRect l="0" t="0" r="0" b="17221"/>
          <a:stretch/>
        </p:blipFill>
        <p:spPr>
          <a:xfrm>
            <a:off x="2195640" y="2467080"/>
            <a:ext cx="530532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safe Sex in South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5"/>
          <p:cNvPicPr/>
          <p:nvPr/>
        </p:nvPicPr>
        <p:blipFill>
          <a:blip r:embed="rId1"/>
          <a:srcRect l="0" t="0" r="0" b="9284"/>
          <a:stretch/>
        </p:blipFill>
        <p:spPr>
          <a:xfrm>
            <a:off x="179280" y="1413000"/>
            <a:ext cx="5832720" cy="52909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5940360" y="1628640"/>
            <a:ext cx="3203640" cy="71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Why do you think that unsafe sex is so prevalent in South Afric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Why do you think women in South Africa feel they must have sex when aske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What could the government do to change these statistic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HIV prevalence rates in women under 20 have fallen since 1998, suggesting that Aids awareness campaigns are having an impa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6"/>
          <p:cNvPicPr/>
          <p:nvPr/>
        </p:nvPicPr>
        <p:blipFill>
          <a:blip r:embed="rId1"/>
          <a:srcRect l="0" t="0" r="0" b="17221"/>
          <a:stretch/>
        </p:blipFill>
        <p:spPr>
          <a:xfrm>
            <a:off x="1332000" y="1197000"/>
            <a:ext cx="66960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21528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HIV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H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uman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I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munodeficiency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V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rus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AIDS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A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uto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I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mune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D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ficiency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S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yndrome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57120" y="278604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HIV is the name given to a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HIV affects your immune system (the way your body fights illness and inf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HIV stops your immune system from working properly so that your body can no longer defend itself. This is A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 Viru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258920" y="2773440"/>
            <a:ext cx="6572160" cy="26002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4668840" y="4799160"/>
            <a:ext cx="3143160" cy="28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642960" y="550872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fluenza (flu), Polio, Smallp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179280" y="1117440"/>
            <a:ext cx="764388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iruses are micro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y consist of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NA or RNA (which hold the information about the virus, like your D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 protein coat (to protect the DNA/R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w a virus ‘works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357120" y="1500120"/>
            <a:ext cx="8358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A virus is a parasite which cannot reproduce on its ow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it needs another living thing to surv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It infects the cells of your body and ‘hijacks’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Adsorption &amp; Entry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Your cells stop doing what they’re supposed to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instead make copies of the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Replication &amp; Assembly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The new viruses are released and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on to infect other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Releas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6227640" y="1081080"/>
            <a:ext cx="23320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s It Ali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Viruses have characteristics of living things but, in some ways, could be said to be non-living – what do you thin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emember – Living thing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o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eprodu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en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Gr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espi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Get rid of was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eed ener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w does it sprea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virus needs to make its way from one ‘host’ to an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is can happen in different w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irbor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ransfer of body flu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rough a ‘carrier’ (malar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IV is transferred ONLY through transfer of body flu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think of any examples of body fluids that could spread HIV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much of each body fluid do you think needs to be transferred for someone to become infected with HIV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w does AIDS affect you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IV stops your immune system from working proper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is means an illness that is not very serious for you and me can become life threatening to someone with HI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eople do not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di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from AIDS, they die because their bodies cannot fight off infections from other disease-causing organis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nuemo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tuberculo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AIDS_Map_Adults1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aids_africa"/>
          <p:cNvPicPr/>
          <p:nvPr/>
        </p:nvPicPr>
        <p:blipFill>
          <a:blip r:embed="rId1"/>
          <a:stretch/>
        </p:blipFill>
        <p:spPr>
          <a:xfrm>
            <a:off x="900000" y="0"/>
            <a:ext cx="727236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16:31:29Z</dcterms:created>
  <dc:creator>Philip Robinson</dc:creator>
  <dc:description/>
  <dc:language>en-US</dc:language>
  <cp:lastModifiedBy>RomaK</cp:lastModifiedBy>
  <dcterms:modified xsi:type="dcterms:W3CDTF">2015-09-04T12:21:32Z</dcterms:modified>
  <cp:revision>11</cp:revision>
  <dc:subject/>
  <dc:title>HIV and AIDS</dc:title>
</cp:coreProperties>
</file>